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2E1-6712-4501-A83F-3D8ABF9B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58C-1CBD-40C5-9758-D6C0AC5D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D28-D999-48A2-8EB6-5A9B59D9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D4D-A7F6-477F-9105-C3CC061C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9D9-4628-4397-AA04-5C90DD73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EE16-EFC7-447D-809E-D6926AF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9FA7-EECB-4459-A0DE-7F907D7C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B8F-2989-4C93-A02B-E6BD1AF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D1DD-04DA-472D-BD5E-612D36A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0871-512A-4B60-A4BB-8EE365D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FAB-B35B-4485-9E0D-7F0A7B7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F42-258D-41A0-A787-A9B0B6E6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FEA6-7DAA-4D6C-9182-96CB61A6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B135-1B3D-41A8-A38F-92AE1D2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E7F-DB05-4B7D-ABB9-D0F8F7D7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64C-6FA5-4819-ADD3-E39D5441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B933-87D8-46E5-B3CD-F9EC00C4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D1F-6DCE-460F-AC9E-B35F2E9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824-0301-4293-8A67-DC75730B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D97-1395-458A-A669-58117BC4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70B-F1D0-4E51-91C9-6DC9B78E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29E-396B-4414-927A-913D78D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796-B80F-48A7-959D-C148007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F47-C8AB-4247-BEAE-56918FF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97AE-5221-4278-9D8D-ADBA4DAF4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477-304C-4996-916D-00295A5050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ff"/>
                </a:solidFill>
                <a:latin typeface="Arial"/>
              </a:rPr>
              <a:t>ЈАВНОЗДРАВСТВЕНИ </a:t>
            </a:r>
            <a:br>
              <a:rPr sz="5400"/>
            </a:br>
            <a:r>
              <a:rPr b="1" lang="sr-CS" sz="5400" spc="-1" strike="noStrike">
                <a:solidFill>
                  <a:srgbClr val="ffffff"/>
                </a:solidFill>
                <a:latin typeface="Arial"/>
              </a:rPr>
              <a:t>НАДЗ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Надзором прикупљам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2674800"/>
            <a:ext cx="77724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атке који су важни за оптималну организацију здравствене зашт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Пасивни надзо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рганизација која надзор спроводи НЕ контактира особе на терену задужене за извештавање, већ иницијативу препушта њ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терећење, споредан посао, нема мотивисаности на терену па долази до подрегистрације и некомплетности регистр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асивни надзо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лативно јефт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ако применљив за започињање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утински се чешће кори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ично је почетак сваког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Активни надзо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рганизација која надзор спроводи предузима одређен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акциј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(телефонски контакт, обилазак) како би прибавила тражене подат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плетније извештавање (спроводе га особе специјално за то задужен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хтева велико ангажо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ку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утински се чешће користи пасив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064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ктивни надзор над случајевима вариоле, праћен вакцинацијом контак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а и интензивни активни надзор над случајевима полиомије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судно за ерадикаци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есудно за смањење учесталости болничких инфекциј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13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удије преваленције БИ у многим земљама света као пример активног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адствена примена одговарајућих 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Комбинације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активног и пасивног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244440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биновани активно-пасив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одификовани актив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чани пасив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Важно је описа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ко се надзор спровод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 спроводи надзо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лико често се контактира са особама на терену задуженим за извештавањ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је су помоћне процедуре за идентификацију случај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Надзор се заснива 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Обавезном пријављивању одређе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2. Лабораторијским подац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Регистр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4. Популационим  испитивањ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Надзор заснован на обавезном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пријављивању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одређе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већини земаља законом регулисано (углавном болести заразне етиологиј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илима прописани временски захте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илима прописани нивои одговорности за њихово пријављи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Надзор заснован на обавезном </a:t>
            </a:r>
            <a:r>
              <a:rPr b="0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пријављивању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одређе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52072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нашој земљи обавезно се пријављује 70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ализа се врши на нивоу насеља (омогућава уочавање груписања оболелих у времену и простору тј. локализованих епидемија у почетк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Надзор над болешћ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мно праћење свих аспеката јављања и ширења болести који могу да допринесу његовом спречавању и сузбиј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Надзор заснован на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лабораторијским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подаци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абораторијска дијагностика као база за надзор одређених болести и ст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нос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дентификација пацијената лечених у различитим здравственим установ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таљно информисање о резултатима примењеног дијагностичког теста (антибиотска сензитивност бактеријског узрочни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Надзор заснован на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лабораторијски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подаци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достац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ије могуће обезбедити информације о важним епидемиолошким и клиничким карактеристикама пације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ацијенти са урађеним лабораторијским тестовима НЕ репрезнтују све оболеле од болести која је предмет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Надзор заснован на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регистри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финициј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ртотека којом су обухваћени СВИ случајеви болести, поједине болести или друга стања у вези са здрављем (регистар за рак, конгениталне малформације у дефинисаној популацији, односно у дефинисаном подручј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Надзор заснован на </a:t>
            </a:r>
            <a:r>
              <a:rPr b="0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регистри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олести које подлежу регистрацији бирати пажљиво и рестриктивно (квалитет система надзора обрнуто сразмеран броју њиме обухваћених пормећаја здрављ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могућава идентификацију пацијената за дуготрајно праћење или епидемиолошко истражи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4.Надзор заснован на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опулационим истраживањима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(у одређеној популацији) омогућава праћењ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нашањ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овезаних са поремећајима здрављ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ерсоналних (личних) карактеристи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које утичу на ризик оболе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тица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знања и став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понашање у вези са здрављ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шћењ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здравствене служ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Надзор над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факторима ризик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заним за понашање, САД, 40 држ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купљање података телефонским интервјуом помоћу упитника (стандардна питања везана за пушење, употребу алкохола, сигурносне појасеве, физичку неактивнос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Циљ: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успостављање и  очување здравља на локалном нивоу и подршка јавно-здравственом законодавст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спитивања заснована на анкетирању особа могу бити допуњ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изикалним испитивањ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зорковањем биолошког материј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праћење преваленције физиолошких детерминанти здравственог радника (крвни притисак, ниво холестерол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Упозоравајући здравствени догађај и Надзор заснован на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предострожном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надзо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90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снован на пријављивању случајева болести чија појава сугериш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имену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себних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ревентивних или терапијских 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бољшање квалитета већ постојећих превентивних или терапијских 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Надзор заснован на </a:t>
            </a:r>
            <a:r>
              <a:rPr b="1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предострожно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надзо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презентативан узорак попул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граничен број посебно стимулисаних или мотивисаних лекара пажљиво прати и пријављује појаву одређене болести ( сида, грип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те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ретке болести тј.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позоравајући здравствени догађ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Ретке боле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ихова појава служи као упозорење здравственој служ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ружене су са специфичном експозициј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огу да претходе јавноздравственим проблемима ширих раз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зивају се “упозоравајућим здравственим догађајима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РЕДМЕТ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јавноздравственог надзора?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 Праћење </a:t>
            </a:r>
            <a:r>
              <a:rPr b="1" lang="sr-CS" sz="2800" spc="-1" strike="noStrike" u="sng">
                <a:solidFill>
                  <a:srgbClr val="ff3300"/>
                </a:solidFill>
                <a:uFillTx/>
                <a:latin typeface="Arial"/>
              </a:rPr>
              <a:t>промена у учесталост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разни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заразних боле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овр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гениталних малформациј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тровањ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болести које прате природне катастрофе (земљотреси, урагани, цун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Надзор над ретким болести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маже откривању ситуација које захтева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а популациона истражи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имену одговарајућих интервентних 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упозоравајућих професионалних здравствених догађа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9068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креће испитивање здравствене безбедности радних места (побољшати заштиту радника на њ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могућава идентификовање радника које треба подвргнути скринингу и лече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имер упозоравајућег здравственог догађај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4920" y="2666520"/>
            <a:ext cx="8497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учај полиомије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анас када се приводи крају ерадикација ове болести у светским размер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казује на пропусте у имунизациј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Надзор заснован на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информационом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систем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вор: Базе података (листе рођених, умрлих, болничке отпусне листе, подаци о осигурањ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достац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Лош квалитет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Промене у кодирањ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Промене у дијагнози болести током вре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Надзор заснован на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Arial"/>
              </a:rPr>
              <a:t>повезивању података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-подаци из различитих извора повезан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Подаци о рођењу + подаци о смртном исходу дец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праћење специфичних неонаталних морталитетних стопа према тежини на рође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Надзор заснован н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овезивању податак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-подаци из различитих извора повезан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Ризик неонаталне смрти већи међу децом рођеном са малом телесном тежин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Ефективан надзор неонаталног морталитета захтева праћ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учесталости ниске тежине на рођењу и - стопа морталитета деце са различитом телесном теж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дзор заснован н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везивањ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одатака-податке из различитих извора повезат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Књиге умрлих не садрже податке о тежини на рође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У књиге рођених не уписују се подаци о смртном ис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зивањем података одредити трендове специфичних неонаталних морталитетних стопа према тежини на рође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ЕВАЛУАЦИЈА СИСТЕМА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Евалуациј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система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валуација постојећег система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цепција предложеног система надзора заснована на критеријум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НИВОИ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евалуације постојећег система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Процена јавноздравственог значаја догађаја над којим се врши надзор ( да ли је оправдано вршити надзор над тим догађајем и да ли је у питању јавноздравствени приорит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ПРЕДМЕТ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јавноздравственог надзора ?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Праћење комплетности обухвата и заштите популације </a:t>
            </a:r>
            <a:r>
              <a:rPr b="1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вакцинациј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Праћење учесталости </a:t>
            </a:r>
            <a:r>
              <a:rPr b="1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резистенције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микроорганизама на леко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(резистенцуја проузроковача туберкулозе и маларије на одређене леко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НИВОИ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евалуације постојећег система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2. Процена користи и трошкова система надзора (да ли надзор испуњава циљеве и колико кошта, да ли је исплати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ИВО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евалуације постојећег система надз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оцена квалитета карактеристика система надз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једноста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флексибилно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способност система надзора да се према потреби мењ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ихватљиво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спремност појединаца и организација да учествују у систему надзо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ензитивно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пропорција здравствених догађаја откривених надзором и способност система да открије епидемиј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едвидљивост позитивног налаз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пропорција идентификованих случајева који стварно имају здравствено стање које је предмет надзо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епрезентат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авовремено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брз проток информац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Евалуациј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система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основу процена на сва три нивоа доноси се одлука 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увођењу надзора над неким здравственим догађај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сталном спровођењу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обустављању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ПРЕДМЕТ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јавноздравственог надзора ?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3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0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. Праћење промена у </a:t>
            </a:r>
            <a:r>
              <a:rPr b="1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преваленцији фактора ризи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везаних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нашин жив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загађење животне сред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изложеност вектор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Значај надзора вишестр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2565360"/>
            <a:ext cx="7113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ционални н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окални н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Значај надзора на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ационално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ниво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могућава креирањ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литике јавног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здрављ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Доносиоце одлу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набдева подацима значајним за доношење и примену најбољих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тратегиј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за програме и сузбијањ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Значај надзора на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кално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ниво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2781000"/>
            <a:ext cx="7993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ђује основу з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идентификацију појединац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којима је потребна здравствена заштита (терапија, профилакс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Значај надзора на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кално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ниво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Регистровање случаја хепатитиса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креће епидемиолошко испитивањ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наћи особе које су биле у контакту са оболелом особ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имунопрофилакса особа из конта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Значај надзора на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кално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ниво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Пријава болести које се преносе сексуалним пу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креће епидемиолошко испитивањ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пронаћи, тестирати  и лечити сексуалне партнере оболел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ЈАВНОЗДРАВСТВЕНИ НАДЗОР-Развој концепта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ПОК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деје о посматрању, записивању 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икупљању чиње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Анализ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рикупљених чиње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узимање одговарајућ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ме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основу добијених резул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СВРХА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Сврха надзор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281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формације добијене надзором користе се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у здравственог стања становниш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Дефинисање јавноздравствених приор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Евалуацију превентивних прогр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Спровођење истражи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491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3300"/>
                </a:solidFill>
                <a:uFillTx/>
                <a:latin typeface="Arial"/>
              </a:rPr>
              <a:t>НАЧИН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 УПОТРЕБЕ ПОДАТАКА ДОБИЈЕНИХ НАДЗОРОМ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НАЧИН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УПОТРЕБЕ ПОДАТАКА ДОБИЈЕНИХ НАДЗОРОМ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784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Базичне информације о епидемиологији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 поремећаја здрављ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дзор као полазна тачка за детаљнија </a:t>
            </a: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епидемиолошка истраживања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 (научна истраживањ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ци прикупљени надзором омогућавају, олакшавају 1/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280" y="2781000"/>
            <a:ext cx="7777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Процену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величине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здравственог   п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Опис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природне историје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боле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Откривање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ци прикупљени надзором омогућавају, олакшавају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24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Сагледавање </a:t>
            </a:r>
            <a:r>
              <a:rPr b="1" lang="sr-CS" sz="2800" spc="-1" strike="noStrike" u="sng">
                <a:solidFill>
                  <a:srgbClr val="ffff00"/>
                </a:solidFill>
                <a:uFillTx/>
                <a:latin typeface="Arial"/>
              </a:rPr>
              <a:t>географске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дистрибуциј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Предлагање </a:t>
            </a:r>
            <a:r>
              <a:rPr b="1" lang="sr-CS" sz="2800" spc="-1" strike="noStrike" u="sng">
                <a:solidFill>
                  <a:srgbClr val="ffff00"/>
                </a:solidFill>
                <a:uFillTx/>
                <a:latin typeface="Arial"/>
              </a:rPr>
              <a:t>хипотеза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и њихово тестирање тј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дентификациј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група са највишим ризико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за дату болест и разјашњавање етиологије и путева ширења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Евалуацију примењених </a:t>
            </a:r>
            <a:r>
              <a:rPr b="1" lang="sr-CS" sz="2800" spc="-1" strike="noStrike" u="sng">
                <a:solidFill>
                  <a:srgbClr val="ffff00"/>
                </a:solidFill>
                <a:uFillTx/>
                <a:latin typeface="Arial"/>
              </a:rPr>
              <a:t>превентивних и противепидемијских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прогр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Праћење </a:t>
            </a:r>
            <a:r>
              <a:rPr b="1" lang="sr-CS" sz="2800" spc="-1" strike="noStrike" u="sng">
                <a:solidFill>
                  <a:srgbClr val="ffff00"/>
                </a:solidFill>
                <a:uFillTx/>
                <a:latin typeface="Arial"/>
              </a:rPr>
              <a:t>промена инфективног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ци прикупљени надзором омогућавају, олакшавају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42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Откривање промена у здравственој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прак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Планирање и креирање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јавно-здравствен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прогр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Обезбеђење података за науч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истражи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1. Процена величине здравственог пробл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етод надзора: Праћење смртних исхода на основу података виталне статис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ћење трендова морталитет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 уочавање значаја поједи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*) Младе особе м.пола, САД, 1982-19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Пораст смртних исхода повезаних са ХИВ/трендови умирања од друг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Указао на значајан утицај ХИВ епидемије на укупну смрт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цена величине 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здравственог 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2. Опис природне историје болести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8013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аци надзора се користе за идентификацију или потврду опажених трендова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Природну историју маларије у САД могуће сагледати на основу надзора над стопама инциденције ове болести почев од 1930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ДМЕТ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Оболел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ама заразна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болес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разна болест и други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јавноздравствени прибле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ис природне историје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пис природне историје болести-Маларија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799308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40-их г. 20в. малариј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ила ендемска болест југоисточних делова С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оља дијагностика и терапија довела до потпуне елиминациј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пис природне историје болести-Маларија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50-их и 60-их г. 20. века стопе оболевања од маларије раст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дица ратова САД у Камбоџи и Вијетнаму и импортовања случај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раст путовања становника САД у земље у којима има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играција из земаља у којима има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3. Откривање епидемиј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а основу НЕуобичајеног пораста стопа инциденције и морталитета од нек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уобичајен ниво боле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ти уобичајене стопе оболевања (очекива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опе регистроване надзором упоредити са уобичајеним стоп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колико с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опе регистроване надзором више од очекива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ЕПИДЕМИЈСКО јављање дат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Откривање епидемиј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ћењем инциденције и преваленције поремећаја здравља могућ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ти епидемиј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ценити корист од примене превентивних 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Откривање епидемиј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вако одступање од уобичајеног кретања болести (пораст инциденције) захт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одатно испити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а ли је стварно настала епидемиј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 пораст инциденције одговорни други фактори (промена у начину регистровања болести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офистицирани модел за предвиђање епидемије грипа, ЦДЦ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60436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аћење недељног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р. умрлих од пнеумоније и грипа у 122 велика америчка града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//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ОЧЕКИВАНИ бр.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умрлих у идентичним недељама у претходних 5г. у којима није било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офистицирани модел за предвиђање епидемије грипа, ЦДЦ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43588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неумоније су укључене у надзор? 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неумоније настале као последица грипа уписују се у умрлице само као пнеумонија, без помињања гр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аци за сваку годину објављују се у Недељном извештају о оболевању и умирању ЦД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ткривање епидемије -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рафички приказ, сезона 2001/02 (већа епидемија грипа), сезона 2004/05 (епидемија мањих размер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евовремено откривање епидемија заразних болест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"Синдромски" систем надзора над одређеним заразним болест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снован 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клиничко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лазу тј. на присуству одређених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импт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знак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олести претходно дефинисаних за потребе надзора (дефиниције случаје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едмет надзор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Оболели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д заразних болести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о 1950.г. надзор (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URVEILLANC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о за праћење особа које су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биле у контакту са оболели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од тешких заразних болести (куга, в.бог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ткрити прве знаке и симптоме болести и оболеле изоловати (спречити даље ширење боле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истеми надзора, Србија, 20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тојећи 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традиционал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, законом регулисани систем надзора над заразним болест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ној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ијав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одлеже 70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истем надзора над заразним болестима (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тање приправности, опрезн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истем надзора над заразним болестима (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тање приправности, опрезности)?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снован на синдромском пријављивању 11 с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едноставне клиничке дефиниције случајева и њихово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БИР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ријављи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дељно извештавање на окружном и централном нив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рза анализа подат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вовремен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АТНА информ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требна за предузимањ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к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Главни циљ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истема надзора?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8013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овремено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откривање груписањ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лучајева нек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Откривање груписањ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лучајева неке заразне болести може да укаже на епидемију т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имен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истема надзора у Србији?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2707920"/>
            <a:ext cx="7775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осадашње искуство доб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ан у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рано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откривању епидемија акутних респиратор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236232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П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рикупљ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лекари опште праксе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505320" y="76320"/>
            <a:ext cx="5159160" cy="6653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26920" y="404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6d1ec"/>
                </a:solidFill>
                <a:latin typeface="Arial"/>
              </a:rPr>
              <a:t>Прикупљањ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92360" y="53352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АЛЕРТ…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Како рад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1905120"/>
            <a:ext cx="3097080" cy="825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Прикупљање пода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39120" y="2978280"/>
            <a:ext cx="4164480" cy="825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Обрада и анализа пода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на локалном нив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09640" y="4721400"/>
            <a:ext cx="370584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Прослеђивање пода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9680" y="6102360"/>
            <a:ext cx="58881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Анализа података на централном нив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5760" y="4365720"/>
            <a:ext cx="3649320" cy="825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Дистрибуција поврат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информ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825640"/>
            <a:ext cx="3551400" cy="825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Хитан одго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при појави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45c984"/>
                </a:solidFill>
                <a:latin typeface="Arial"/>
              </a:rPr>
              <a:t>епид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385000">
            <a:off x="5733720" y="2266560"/>
            <a:ext cx="952560" cy="38088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962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392800">
            <a:off x="6405120" y="5257800"/>
            <a:ext cx="452520" cy="838080"/>
          </a:xfrm>
          <a:prstGeom prst="downArrow">
            <a:avLst>
              <a:gd name="adj1" fmla="val 50000"/>
              <a:gd name="adj2" fmla="val 4630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9356000">
            <a:off x="1981080" y="5333760"/>
            <a:ext cx="487440" cy="685800"/>
          </a:xfrm>
          <a:prstGeom prst="upArrow">
            <a:avLst>
              <a:gd name="adj1" fmla="val 50000"/>
              <a:gd name="adj2" fmla="val 3517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3809880"/>
            <a:ext cx="457200" cy="457200"/>
          </a:xfrm>
          <a:prstGeom prst="upArrow">
            <a:avLst>
              <a:gd name="adj1" fmla="val 35417"/>
              <a:gd name="adj2" fmla="val 1770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Недостац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истема надзора у Србији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5640" y="278136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довољно прецизне дефиниције случај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адекватна анализ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имен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T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система надзора у Србији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мо за одеђене ситуације (нови закон о заштити становноштва од заразних боле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435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4. Сагледавање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Arial"/>
              </a:rPr>
              <a:t>географске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Arial"/>
              </a:rPr>
              <a:t>дистрибуције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 болести и уочавање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Arial"/>
              </a:rPr>
              <a:t>груписања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 случајева у појединим подручји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2852280"/>
            <a:ext cx="8013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оже да олакша утврђивање узрока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некад може да омогући постављање хипотезе о факторима ризика за дату болест, уколико се ради о обољењу чији је узрок непозн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едмет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адзора- Сама заразна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боле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агледавање географске дистрибуције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Три епидемије салмонелозне инфекције, 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2004.г., 561 оболела особа у 18 држава САД и једној провинцији у Кана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везанане са конзумирањем "Рома" парадајза (врста отпорна на болести, производи се у Ј.Америци од средине 50-их г. 20. ве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повучен из употре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5. Предлагање хипотезе и њихово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тестирањетј.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дентифик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група са највиши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ризиком з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ату болест и разјашњавање етиологије и путева ширења боле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4920" y="2754360"/>
            <a:ext cx="84978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ормације о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демографски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карактеристикама оболелих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 идентифик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група са највећим ризико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 дат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је о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  <a:ea typeface="Arial"/>
              </a:rPr>
              <a:t>специфичној експозициј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или понашању оболелих →постављање ХИПОТЕЗЕ о могућим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утевима ширењ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је о специфичној експозицији или понашању оболел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203328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Помажу у разјашњав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етиоло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утева ширења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(на основу епидемиолошких истраживања утврђен начин преношења вируса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IV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ју постављање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ХИПОТЕЗ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о могућим путевима ширења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ју препоруку  првих превентивних мера (пре него је агенс откривен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Надзор над ХИВ -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основу података надзор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основу првих епидемиолошких истраживањ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 него што је вирус откриве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тављена хипотеза о могућим начинима преношења ХИВ-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репоручене прве превентивн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Евалуација примењених превентивних и противепидемијск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програма тј. евалуација ефективности превентивних прогр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ад инциденције неке болести корелира са почетком примене одређеног превентивног програ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Могуће проценити корист од превентивних 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имер ефективности примењене ме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Уведена вакцина против полиомијелити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адзором уочен пад инциденције полиомијелитиса у Србиј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76320" y="836640"/>
          <a:ext cx="899136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836640"/>
                    <a:ext cx="89913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flipH="1">
            <a:off x="2666520" y="3429000"/>
            <a:ext cx="1295640" cy="22096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3276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55960" y="297180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Уведена имунизација</a:t>
            </a:r>
            <a:r>
              <a:rPr b="1" lang="sl-SI" sz="1600" spc="-1" strike="noStrike">
                <a:solidFill>
                  <a:srgbClr val="ff3300"/>
                </a:solidFill>
                <a:latin typeface="Arial"/>
              </a:rPr>
              <a:t> OP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5638680"/>
            <a:ext cx="7596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4240" y="274680"/>
            <a:ext cx="827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6d1ec"/>
                </a:solidFill>
                <a:latin typeface="Tahoma"/>
              </a:rPr>
              <a:t>Инциденција полиомијелитиса у Србиј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6d1ec"/>
                </a:solidFill>
                <a:latin typeface="Tahoma"/>
              </a:rPr>
              <a:t>(1953-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имер ефективности примењене ме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Повлачење са тржишта "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ly"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пер упијајућих тампона које су користиле жене у СА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адзором уочен пад оболевања од стафилококног токсичног шок синдр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d1ec"/>
                </a:solidFill>
                <a:latin typeface="Arial"/>
              </a:rPr>
              <a:t>Токси</a:t>
            </a:r>
            <a:r>
              <a:rPr b="0" lang="sr-Latn-CS" sz="4400" spc="-1" strike="noStrike">
                <a:solidFill>
                  <a:srgbClr val="86d1ec"/>
                </a:solidFill>
                <a:latin typeface="Arial"/>
              </a:rPr>
              <a:t>чни шок синдром </a:t>
            </a:r>
            <a:r>
              <a:rPr b="0" lang="sr-CS" sz="4400" spc="-1" strike="noStrike">
                <a:solidFill>
                  <a:srgbClr val="86d1ec"/>
                </a:solidFill>
                <a:latin typeface="Arial"/>
              </a:rPr>
              <a:t>у СА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56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едмет надзора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- Не само заразна болест већ и други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јавноздравствени прибле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72835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60-их г. 20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ПИДЕМИОЛОШКИ надз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7.Праћење промена инфективног аген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алмонело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Надзор над салмонелозам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II-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2002.г., Данска, 41 случај мултирезистентн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.Typhimurium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резистентне на 4 антибиоти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периоду 1997-2002.г. појава случајева мултирезистентн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.Typhimurium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ретка пој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утински надзор над салмонелозама домаћих животињ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3% свих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.Typhimurium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резистентних сојева откривен у епидемији, потиче из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урећег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меса највећег данског произвођа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7% свих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.Typhimurium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резистентних сојева откривених у епидемији потиче из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вињског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аћење промена инфективног аген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ничке инфекциј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едан од циљева надзора над БИ хоспитализованих пацијената ј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ћење промена резистенције проузроковача на антибиотик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→Превенција и сузбијање 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8. 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Откривање промена у здравственој прак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СА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о 1965.г., 5% жена порођене царским ре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990-2000.г. 25% жена порођене царским ре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снов 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ланирање истраживања узрока ове проме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сматрање утицаја промене начина порођаја на исход порођ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гледавање новонасталих трош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ткривање промена у здравственој прак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734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) Сталним надзором уоче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ве чешћа примена инвазивних процедура (коронарографија, ИВП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а учесталост 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9.Планирање и креирање јавно здравствених програ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7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угорочно праћење трендова поремећаја здравља и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нформације о популацији са повећаним ризи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→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иђање трендова у будућност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→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Помоћ здравственим планерима у      креирању политике јавног здравља на    националном ниво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→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Успостављање јавноздравствених приорит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10. Обезбеђење података за научна истраживања  тј.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адзор као полазна тачка за детаљнија епидемиолошка истраживања (научна истражи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дзором се обезбеђуј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сновни подаци о 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демиолошким карактеристикама поремећаја здрављ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лови за даља епидемиолошка истраживања (идентификују особе које ће бити предмет истраживања специфичних научних пројека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ЕЛЕМЕНТИ СИСТЕМА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ЕЛЕМЕНТИ СИСТЕМА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7993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Дефиниција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болести или стања (дефиниција случај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Популација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обухваћена надз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3. Заштит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поверљивости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Стимулусање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чешћа у надз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едмет надзора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- Не само заразна болест већ и други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јавноздравствени прибле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80139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0-их г. 20.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ширени концепт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АВНОЗДРАВСТВЕНИ надзод (основна компонента јавноздавствене пракс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Ш та подразумева циклус надзора над здравственим догађаје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899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Откривањ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дравственог догађа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егистровањ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дравственог догађ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укцесив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еношењ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нформација од локалних ка централној здравственој организацији задуженој за његово спровођ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нализа и тумачењ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рикупљених подат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оврат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нформација учесницима надз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вратна информација онима који могу да предузимају ак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42920" y="620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истем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386080"/>
            <a:ext cx="1828800" cy="3886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386080"/>
            <a:ext cx="1904760" cy="3809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3640" y="190980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дравствене устан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70880" y="17049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Стуктуре које одлучују 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области јавног здра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614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6d1ec"/>
                </a:solidFill>
                <a:latin typeface="Arial"/>
              </a:rPr>
              <a:t>Догађ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528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433840"/>
            <a:ext cx="205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6d1ec"/>
                </a:solidFill>
                <a:latin typeface="Arial"/>
              </a:rPr>
              <a:t>Интервенциј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59640" y="26906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86d1ec"/>
                </a:solidFill>
                <a:latin typeface="Arial"/>
              </a:rPr>
              <a:t>Пода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72360" y="55864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86d1ec"/>
                </a:solidFill>
                <a:latin typeface="Tahoma"/>
              </a:rPr>
              <a:t>Информ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2995560"/>
            <a:ext cx="3504960" cy="228600"/>
          </a:xfrm>
          <a:prstGeom prst="rightArrow">
            <a:avLst>
              <a:gd name="adj1" fmla="val 50000"/>
              <a:gd name="adj2" fmla="val 38330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3147840"/>
            <a:ext cx="304920" cy="2286000"/>
          </a:xfrm>
          <a:prstGeom prst="downArrow">
            <a:avLst>
              <a:gd name="adj1" fmla="val 50000"/>
              <a:gd name="adj2" fmla="val 18742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433840"/>
            <a:ext cx="3200400" cy="228600"/>
          </a:xfrm>
          <a:prstGeom prst="leftArrow">
            <a:avLst>
              <a:gd name="adj1" fmla="val 50000"/>
              <a:gd name="adj2" fmla="val 3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3071880"/>
            <a:ext cx="228600" cy="2361960"/>
          </a:xfrm>
          <a:prstGeom prst="upArrow">
            <a:avLst>
              <a:gd name="adj1" fmla="val 50000"/>
              <a:gd name="adj2" fmla="val 25830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03640" y="2522520"/>
            <a:ext cx="22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6d1ec"/>
                </a:solidFill>
                <a:latin typeface="Arial"/>
              </a:rPr>
              <a:t>Пријављива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5815080"/>
            <a:ext cx="426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86d1ec"/>
                </a:solidFill>
                <a:latin typeface="Arial"/>
              </a:rPr>
              <a:t>Одлу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d1ec"/>
                </a:solidFill>
                <a:latin typeface="Arial"/>
              </a:rPr>
              <a:t>(</a:t>
            </a:r>
            <a:r>
              <a:rPr b="1" lang="hr-HR" sz="2000" spc="-1" strike="noStrike">
                <a:solidFill>
                  <a:srgbClr val="86d1ec"/>
                </a:solidFill>
                <a:latin typeface="Arial"/>
              </a:rPr>
              <a:t>повратна информација</a:t>
            </a:r>
            <a:r>
              <a:rPr b="1" lang="en-US" sz="2000" spc="-1" strike="noStrike">
                <a:solidFill>
                  <a:srgbClr val="86d1e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ви системи надзора захте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ређивање оперативних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ДЕФИНИЦИЈ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олести и стања који су предмет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финисање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ОПУЛАЦИЈ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у којој ће се надзор спровод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Дефиниц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болести или стања (дефиниција случај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Основни корак у успостављању система надзора, поред постављених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циље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 обезбеђених материјално техничких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ред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2.Што једноставнија, кра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Дефиниција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болести или стања (дефиниција случај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0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Представља неку врсту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авнотеж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змеђу потребе да ка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лучајеве идентификују што више оболели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то мање особа које немају болес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а је предмет надзора тј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авнотежа између потребе да се задовољ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ензитивнос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пропорција оболелих особа које су идентификоване надзором),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пецифичнос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пропорција здравих особа које нису идентификоване надзором)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зводљив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Дефиниција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болести или стања (дефиниција случај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4.Представљају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комбинаци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клиничких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манифестација 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лабораторијских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5.У зависности од доступности информација за неке болести, оне могу бит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груписане(стратификоване) према степену потврд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("потврђени" и "вероватни" случајеви боле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Дефиниција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болести или стања (дефиниција случај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Постојање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е дефини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а одређену болест или здравствени проблем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н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деално реш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7.З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у болес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ристит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зличите дефини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 различитим ситуацијама у зависности 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отребних информ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римењених метода надз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увежбаности особа које спроводе надз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Дефиниције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за надзор хепатитиса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"Жуте беоњач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2. Налаз специфичних Ат на хепатитис А вирус + присуство жутице или лабораторијског доказа дисфункције јет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Дефиниције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за надзор хепатитиса А -Избеглички ка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1280" y="2327400"/>
            <a:ext cx="8013600" cy="38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Лабораторијско тестирање није лако изводљ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"Жуте беоњаче" је најједноставнија дефини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Недостаци: биће укључене неке особе са жутицом друге етиолог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Дефиниције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за надзор хепатитиса А -Избеглички ка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ложена дефиниција: Налаз специфичних Ат на хепатитис А вирус + присуство жутице или лабораторијског доказа дисфункције јет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хтева да оболеле особе имају приступ здравственој служби где ће бити урађени серолошки и лабораторијски тест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достац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искључује особе које на основу епидемиолошких и клиничких критеријума имају хепатитис А, а немају урађене тесто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искључује особе које имају асимптоматску форму хепатитиса А (без жутиц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ДЕФИНИЦИЈА јавноздравственог надзора 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лно, систематско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икупља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анализа и тумаче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подата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о </a:t>
            </a:r>
            <a:r>
              <a:rPr b="1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здрављ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итних за планирање, примену и евалуацију праксе јавног здрављ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авовремено </a:t>
            </a:r>
            <a:r>
              <a:rPr b="0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сла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одатака свима који треба да их зна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Приме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тих податак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за превенцију и сузбија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олести и повр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Болести са </a:t>
            </a:r>
            <a:r>
              <a:rPr b="1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дугим латентним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периодом или хроничним ток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71640" y="2852280"/>
            <a:ext cx="7797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пликовано је одредити дефиницију случа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иљ и потребе надзора одређу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4000" y="2492280"/>
            <a:ext cx="7940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Која фаза боле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ће бити предмет посматрања (пресимптоматска, рана или касна фаз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Да ли ће смртни исхо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ити предмет посматра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Примена дефиниције болести и дијагностичких критеријума у различитим земљама и касније упоређивањ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55280" y="3284280"/>
            <a:ext cx="7581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но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тандардизова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дефинициј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дијагностичке критерију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Дефиницију за надзор није једноставно одреди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54304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мо праћењ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болести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често није довољн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ћењ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изложености фактори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пољашње сред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ћењ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нашањ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која претход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4216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аћење </a:t>
            </a:r>
            <a:r>
              <a:rPr b="1" lang="sr-CS" sz="4000" spc="-1" strike="noStrike" u="sng">
                <a:solidFill>
                  <a:srgbClr val="ffffff"/>
                </a:solidFill>
                <a:uFillTx/>
                <a:latin typeface="Arial"/>
              </a:rPr>
              <a:t>изложености факторима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 спољашње средине-Пушењ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4000" y="3284640"/>
            <a:ext cx="8135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ест предмет над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ећи узрок превентабилне смрт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Дефиницију за надзор није једноставно одреди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1."Да ли сада пушите"? 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 тачност дефиниције утиче став анкетираног о пушењу ка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социјално прихватљи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ожељ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неприхватљи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2.Дефиниција пушача заснована на лабораторијској потврди скорашње експозиције никот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рецизн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римена скуп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sr-CS" sz="4000" spc="-1" strike="noStrike" u="sng">
                <a:solidFill>
                  <a:srgbClr val="ffff00"/>
                </a:solidFill>
                <a:uFillTx/>
                <a:latin typeface="Arial"/>
              </a:rPr>
              <a:t>Популац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обухваћена надзор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 успостављања система надзора одредити популацију у којој ће се надзор врши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собе из специјалних установа (пацијенти одређених болница, ђаци одређених школа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новници једне општине, читаве 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пулациони систем надз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популацији дефинисаног географског подручја идентификовати специфичне здравствене догађај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лучајеве, догађај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тистички репрезентативан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зора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догађаја или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пулациони систем надзора-Приме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80848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но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регистровање (пријава)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одређених болести у многим земљ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потреб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виталне статистик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(региструје сва рађања, све смртне исходе, обезбеђује информације о узроцима смр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Превазилажење недостатака популационог надзор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435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 популацији дефинисаног географског подручја чест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ниј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огуће идентификовати  све специфичне здравствене догађаје или њихов узора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редити групу учесника довољ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заинтересовани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спремних и погодних за сарадњ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радници одабраних фабр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ацијенти одређених бол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становници одређених насе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860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одаци прикупљени надзором битни з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739152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ланирањ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име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валуацију праксе јавног здравља (народног здрављ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истем надзора 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CDC,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Атла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кључује становнике из преко 100 град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ђује недељно извештавање о броју смртних исхода који се приписују пнеумонији и грип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оз откривање већег броја умрлих од очекиваног могуће открити епидем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3.Заштита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Arial"/>
              </a:rPr>
              <a:t>безбедности и  поверљивос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 података добијених надзо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920" y="2923920"/>
            <a:ext cx="7632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тичка одговор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опходност да се сачува поверење учес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Заштита поверљивости података који се прикупљају надзором неопходна зб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везаности епидемије СИДЕ са сексуалним понашањем и противзаконитом употребом др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жине ХИВ болести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скриминације ХИВ инфициран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а обезбеђења од повреде приватност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ични идентификациони подаци се НЕ чувају  кад год то није неопход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СИДА у С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прво обавестити локалне органе здравства, затим извештај проследити даљ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имена конвертована у словно нумеричке шифре, свако име добија јединствену шифру која се НЕ може конвертовати натраг у и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шифре комбиноване са датумима рођења користе се за откривање дуплика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4.Стимулусање учешћа у надзо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истем надзора чини мрежа људи и активности (од локалног до интернационалног ниво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стицање учешћа у систему надзора-Успешност функционисања система надзора зависи 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2536560"/>
            <a:ext cx="8820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Степена ефикасност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арад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учес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Ко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од информација које се надзором обезбеђу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вратног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лања информација учесницима система (извештаји, семинари, подаци које сами анализирај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стицање учешћа у систему надзора-Успешност функционисања система надзора зависи 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4. Представљањ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имера употреб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података надзора (за побољшање рада здравствене службе, за креирање политике јавног здрављ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Материјал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докнаде за извешта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Законс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регулисаног обавезног извешта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МЕТОДИ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тоди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5400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КТИВНИ НАДЗ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АСИВНИ НАДЗ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тоди надз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69850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етод надзора зависи 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потребних информ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расположивих стред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19:38Z</dcterms:created>
  <dc:creator> </dc:creator>
  <dc:description/>
  <dc:language>en-US</dc:language>
  <cp:lastModifiedBy> </cp:lastModifiedBy>
  <dcterms:modified xsi:type="dcterms:W3CDTF">2013-11-22T09:00:46Z</dcterms:modified>
  <cp:revision>158</cp:revision>
  <dc:subject/>
  <dc:title>Slide 1</dc:title>
</cp:coreProperties>
</file>